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7D3-9CFA-44E7-ACDC-9B517A7F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47F-6EB1-4F09-AC80-79C46AB0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970-0676-4BC0-AECB-0626F9AD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E06-2E7F-46B7-9D6F-7EB94247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E31A-CFF6-4F9C-B2A3-3274DD7D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65D5-A78F-409D-A075-D38EB7BD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4E61-A69C-4297-8024-C11EF26A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5205-5F70-4DEB-90CC-7BCBDDC0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EC51-1D00-43A8-9BE4-2D907D61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4E1C-24A2-41EB-8D5C-9C5CACEB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95B8-EDF3-48AA-853F-CDFA5B26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24E-75EC-4214-8BDF-BF368B8A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D562-E5FB-4830-9ADE-06A12C4A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3231-81FF-4189-B444-73E05D21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F1D4-BB58-47AE-8D4E-77F21B39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1C40-65CB-4B88-A2C9-CAA868BA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E536-27CD-4215-BC94-125475CC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500-764F-4C95-BEEC-D93D9D65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7EF-0857-4A45-9835-4FCB7E52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2EE-79C8-41A2-A5A6-2A5B71A4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7AF-0A3D-4D72-BAA7-292941FF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245-8030-49FC-872C-3880B80C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63E-311D-4F46-A7A2-3AA01592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9FE-EA02-4FA0-97BC-511D2C3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50e0ea"/>
                </a:solidFill>
                <a:latin typeface="Calibri"/>
              </a:rPr>
              <a:t>Titelmasterformat durch Klicken bearbeit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9FD6AF-1AC6-4096-A014-E0A7E73FD2FC}" type="slidenum">
              <a:rPr b="0" lang="de-DE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de-DE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Titelmasterformat durch Klicken bearbeit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Textmasterformate durch Klicken bearbeit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Zweite Eben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Dritte Ebene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Vier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Fünf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FB5D7F-6FBD-4DA7-B0D6-CA7FC95A6BAB}" type="slidenum">
              <a:rPr b="0" lang="de-DE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50e0ea"/>
                </a:solidFill>
                <a:latin typeface="Calibri"/>
              </a:rPr>
              <a:t>Wälzlager und Wälzlagerung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5538240" cy="3567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0.10.10                                                                            Marco Ruschmey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71360" y="3571920"/>
            <a:ext cx="2142720" cy="233316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715000" y="3500280"/>
            <a:ext cx="242856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Schmierungsarte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fet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Ö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stschmierstoff (Sonderfall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Art der Schmierung richtet sich nach Höhe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Drehzah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Beanspruch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Betriebstemperatu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Vor dem Entwurf muss sich für die Schmierungsart entschieden werd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5768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ezeichnung von Wälzlager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" name="Inhaltsplatzhalter 3" descr="Wälzlagerbezeichnung.jpg"/>
          <p:cNvPicPr/>
          <p:nvPr/>
        </p:nvPicPr>
        <p:blipFill>
          <a:blip r:embed="rId1"/>
          <a:srcRect l="0" t="6851" r="-219" b="0"/>
          <a:stretch/>
        </p:blipFill>
        <p:spPr>
          <a:xfrm>
            <a:off x="285840" y="1285920"/>
            <a:ext cx="4285800" cy="51433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4714920" y="957600"/>
            <a:ext cx="4142880" cy="5851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illenkugellager (DIN 62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hrägkugellager (DIN 62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hulterkugellager (DIN 6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ndelkugellager (DIN 6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xialrillenkugellager (DIN 711, 7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Zylinderrollenlager (DIN 54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egelrollenlager (DIN 7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onnen- und Pendelrollenlager (DIN 6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xial- Pendelrollenlager (DIN 7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adellager (DIN 617)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TB S.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9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600" spc="-1" strike="noStrike" u="sng">
                <a:solidFill>
                  <a:srgbClr val="000000"/>
                </a:solidFill>
                <a:uFillTx/>
                <a:latin typeface="Constantia"/>
              </a:rPr>
              <a:t>Bei der Bezeichnung der Bohrung (Bohrungskennzahl- BKZ) gibt es noch folgendes zu Beachten:</a:t>
            </a:r>
            <a:r>
              <a:rPr b="0" lang="de-DE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kennzahlen 00, 01, 02 und 03 entsprechen in Reihenfolge den Bohrungsdurchmessern 10, 12, 15 und 17 mm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Für die Bohrungsdurchmesser 20 bis 480 mm errechnet sich die Bohrungskennzahl wie folgt: Durchmesser der Bohrung geteilt durch 5 (bis Durchmesser 45 mm wird vor die Bohrungskennzahl eine 0 gesetzt)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durchmesser 0,9 bis 9 mm werden unmittelbar an das Zeichen der Lagerreihe angefügt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durchmesser 22, 28, 32 und größer als 500 mm werden durch Schrägstrich getrennt an das Zeichen der Lagerreihe angefügt.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nhaltsplatzhalter 10" descr="Wälzlagerbezeichnung skf.jpg"/>
          <p:cNvPicPr/>
          <p:nvPr/>
        </p:nvPicPr>
        <p:blipFill>
          <a:blip r:embed="rId1"/>
          <a:stretch/>
        </p:blipFill>
        <p:spPr>
          <a:xfrm>
            <a:off x="1357200" y="1071720"/>
            <a:ext cx="6071760" cy="52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Übung zur Wälzlagerbezeichnung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a) Nennen Sie die Bezeichnung für ein Lager der Lagerart 3, aus nicht rostendem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hl, Breitenreihe 0, Durchmesserreihe 3, Bohrungskennzahl 15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egelrollenlager DIN 720 – S 30315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b) Nennen Sie den dazugehörigen Innen- und Außendurchmesser, sowie die Breite T des Lagers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 = 75mm , D = 160mm , T = 40mm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Entschlüsseln Sie die Bezeichnung 22215 C2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ndelrollenlager DIN 635 , Lagerart 2, Breitenreihe 2, Durchmesserreihe 2, BKZ 15, C2 = verringerte Lagerluft, d=75mm, D=130, B=31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uswahl der Wälzlager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" name="Inhaltsplatzhalter 3" descr="Wälzlager Auswahl.jpg"/>
          <p:cNvPicPr/>
          <p:nvPr/>
        </p:nvPicPr>
        <p:blipFill>
          <a:blip r:embed="rId1"/>
          <a:stretch/>
        </p:blipFill>
        <p:spPr>
          <a:xfrm>
            <a:off x="714240" y="2000160"/>
            <a:ext cx="76435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71360" y="1842840"/>
            <a:ext cx="7000560" cy="355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28760" y="785880"/>
            <a:ext cx="822924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Rillen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vielseitig einsetzbar deshalb werden sie immer als erste Wahl genomm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einfach im Aufbau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für hohe bis sehr hohe Drehzahlen geeigne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unempfindlich in Betrieb und War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Tiefe Laufrillen u. enge Schmiegung  (dadurch Radial- und Axialbelas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leichzeitig möglich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m häufigsten verwendetes 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Schiefstellung = 2-10 Winkelminuten (0,03°-0,167°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Druckwinkel   0°- 45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Inhaltsplatzhalter 3" descr="Wälzlager Auswahl.jpg"/>
          <p:cNvPicPr/>
          <p:nvPr/>
        </p:nvPicPr>
        <p:blipFill>
          <a:blip r:embed="rId1"/>
          <a:srcRect l="1872" t="43757" r="84113" b="29674"/>
          <a:stretch/>
        </p:blipFill>
        <p:spPr>
          <a:xfrm>
            <a:off x="3143160" y="4572000"/>
            <a:ext cx="1785600" cy="202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5357880" y="4500720"/>
            <a:ext cx="2928600" cy="219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2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chräg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Lager für kombinierte Belastung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xiale Tragfähigkeit nimmt mit der Größe des Berührungswinkels zu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Berührungswinkel 40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Druckwinkel 15°- 45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xiale Tragfähigkeit nur in eine Richtung außer bei O- und X-Anordn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000160" y="4071960"/>
            <a:ext cx="5123880" cy="2139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00040" y="785880"/>
            <a:ext cx="822924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endel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hohlkugelige gemeinsame Laufbahn im Außenring, dadurch sind Schiefstellung  je nach Lagerreihe von 1,5°-3° mög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Pendelkugellager weisen die kleinste Reibung unter allen Lagern auf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Pendelkugellager gibt es mit zyl. und kegeliger Bohrung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Zylinder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verschiedene Ausführungen an den Innen- und Außenringen                   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Schiefstellung 3-4 Winkelminu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zwang freie axiale Verschiebbar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Inhaltsplatzhalter 3" descr="Wälzlager Auswahl.jpg"/>
          <p:cNvPicPr/>
          <p:nvPr/>
        </p:nvPicPr>
        <p:blipFill>
          <a:blip r:embed="rId1"/>
          <a:srcRect l="1872" t="70326" r="83181" b="3105"/>
          <a:stretch/>
        </p:blipFill>
        <p:spPr>
          <a:xfrm>
            <a:off x="857160" y="2786040"/>
            <a:ext cx="1571400" cy="1669680"/>
          </a:xfrm>
          <a:prstGeom prst="rect">
            <a:avLst/>
          </a:prstGeom>
          <a:ln w="0">
            <a:noFill/>
          </a:ln>
        </p:spPr>
      </p:pic>
      <p:pic>
        <p:nvPicPr>
          <p:cNvPr id="133" name="Inhaltsplatzhalter 3" descr="Wälzlager Auswahl.jpg"/>
          <p:cNvPicPr/>
          <p:nvPr/>
        </p:nvPicPr>
        <p:blipFill>
          <a:blip r:embed="rId2"/>
          <a:srcRect l="16819" t="43757" r="68226" b="29674"/>
          <a:stretch/>
        </p:blipFill>
        <p:spPr>
          <a:xfrm>
            <a:off x="7143840" y="4857840"/>
            <a:ext cx="1785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Übersich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2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wendungsbereiche der Wälz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fgaben und Wirkprinzip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or- und Nachteil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ungsar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zeichnung von Wälzlager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Übung zu der Bezeichnung von Wälzlager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swahl der Wälzlager und Einteilung der 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ichtige Kriterien für den Entwurf der Lager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läuterung von Punkt- und Umfangslas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el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rechnungsaufgab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Kege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diale- und axiale Belastung möglich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e größer der Berührungswinkel desto höhere Axialbelas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it zyl. u keg. Bohrung sowie Metr. u. Zollabmessungen erhält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ende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das Pendelrollenlager hat eine höhere radiale Belastbarkeit als das Pendelkugellager aufgrund der höheren Auflagefläche der Wälzkörp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Inhaltsplatzhalter 3" descr="Wälzlager Auswahl.jpg"/>
          <p:cNvPicPr/>
          <p:nvPr/>
        </p:nvPicPr>
        <p:blipFill>
          <a:blip r:embed="rId1"/>
          <a:srcRect l="50466" t="43757" r="35511" b="29674"/>
          <a:stretch/>
        </p:blipFill>
        <p:spPr>
          <a:xfrm>
            <a:off x="928800" y="2357280"/>
            <a:ext cx="1285560" cy="145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786120" y="4786200"/>
            <a:ext cx="2071440" cy="207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5381280" cy="500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28760" y="642960"/>
            <a:ext cx="822924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6400" indent="-26640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ARB Toroida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Es vereinigt die Winkelbeweglichkeit des Pendelrollenlagers mit der zwangfreien axialen Verschiebbarkeit des Zylinderrollenlagers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s bietet den Vorteil der kompakten Bauweise. Sehr großen Belastungsbereich, dadurch kl. u. leichtere Lagerungen bei gleicher Belastung mög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ür Loslagerungen bestimm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ann Schiefstellung und Axialverschiebungen gleichzeitig ausgleich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s Lager kann Größe, Gewicht und Herstellkosten von Maschinen reduzie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 ist einstellbar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schwingungen der Welle werden nicht ins Gehäuse übertrag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ufbahnprofile stellen gute Spannungsverteilung im Lager und reibungsarmen Lauf sicher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aben selbsteinstellende Eigenschaft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sehr teuer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RK=60€,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ZR=130€,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CARB= 230€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nhaltsplatzhalter 11" descr="Fest-und Loslager.jpg"/>
          <p:cNvPicPr/>
          <p:nvPr/>
        </p:nvPicPr>
        <p:blipFill>
          <a:blip r:embed="rId1"/>
          <a:stretch/>
        </p:blipFill>
        <p:spPr>
          <a:xfrm>
            <a:off x="1071360" y="1785960"/>
            <a:ext cx="6970680" cy="32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0040" y="114300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xial-Rillenkugellager und Axial-Zylinder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seitig wirkend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eine radiale Belastung zulässi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iefstellung wird ermöglicht durch kugelig ausgeführter Gehäusescheib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weireihige Lager sind beidseitig wirkend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-Zylinderrollenlager sind stoßunempfindlicher und steifer bei relativ geringen axialem Platzbedarf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" name="Inhaltsplatzhalter 3" descr="Wälzlager Auswahl.jpg"/>
          <p:cNvPicPr/>
          <p:nvPr/>
        </p:nvPicPr>
        <p:blipFill>
          <a:blip r:embed="rId1"/>
          <a:srcRect l="68226" t="43757" r="1872" b="3105"/>
          <a:stretch/>
        </p:blipFill>
        <p:spPr>
          <a:xfrm>
            <a:off x="6215040" y="1571760"/>
            <a:ext cx="22856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148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gehäuseeinhei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ehlager ermöglichen                                                        und gleichen Fluchtungs-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fache Montage und                                                        und Winkelfehler aus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montage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lanschlager haben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ele Vorteile in der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onstruktion, Fertigung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ntage und Wartung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oßer elektrischer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schinen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143160" y="1285920"/>
            <a:ext cx="28573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000240" y="3714840"/>
            <a:ext cx="2857320" cy="285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785880"/>
            <a:ext cx="82292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ugelbuchs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071880" y="2500200"/>
            <a:ext cx="3071520" cy="253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200" spc="-1" strike="noStrike">
                <a:solidFill>
                  <a:srgbClr val="04617b"/>
                </a:solidFill>
                <a:latin typeface="Calibri"/>
              </a:rPr>
              <a:t>Wichtige Kriterien für den Entwurf der Lagerung</a:t>
            </a:r>
            <a:endParaRPr b="0" lang="de-DE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art und Lageranordn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iebbar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belastung                            P = X * Fr + Y * Fa          RM TB 14-3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Ermittlung ob Punkt-                                                           RM FS 14.9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der Umfangslast vorliegt).                                                RM ME S.501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gfähigkeit, Steifig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minelle Lebensdauer        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ıo = (C/P)ᴾ oder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ıoh = 10   * Lıo / 60 * n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RM FS 14.5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rehzahl  /     Drehzahlfaktor     fn nach TB 14-4 fn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͌  0,5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˪= C/P*fn                          RM FS 14.6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ib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ung und Abdich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nhaltsplatzhalter 3" descr="dyn. äqu. Beanspruchung.jpg"/>
          <p:cNvPicPr/>
          <p:nvPr/>
        </p:nvPicPr>
        <p:blipFill>
          <a:blip r:embed="rId1"/>
          <a:stretch/>
        </p:blipFill>
        <p:spPr>
          <a:xfrm>
            <a:off x="1643040" y="1071720"/>
            <a:ext cx="5581800" cy="49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Punkt- und Umfangslas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24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nktlast: Ring steht relativ zur Lastrichtung stil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fangslast: Der Ring läuft relativ zur Lastrichtung um, d.h. während einer Umdrehung wird der ganze Umfang des Ringes belastet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ing mit UL würde bei losem Sitz wandern. Dies kann zu Beschädigung der Sitzflächen füh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Grafik 3" descr="Lagerung eines Kranlaufrades.jpg"/>
          <p:cNvPicPr/>
          <p:nvPr/>
        </p:nvPicPr>
        <p:blipFill>
          <a:blip r:embed="rId1"/>
          <a:stretch/>
        </p:blipFill>
        <p:spPr>
          <a:xfrm>
            <a:off x="3500280" y="3714840"/>
            <a:ext cx="4137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010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4617b"/>
                </a:solidFill>
                <a:latin typeface="Calibri"/>
              </a:rPr>
              <a:t>Definition von Wälzlager</a:t>
            </a:r>
            <a:endParaRPr b="0" lang="de-DE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0040" y="2714760"/>
            <a:ext cx="822924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älzlager sind Lager, bei denen zwei zueinander  bewegliche Komponenten   (Innenring sowie Außenring) durch rollende Körper getrennt sind. Sie dienen als Fest- oder Loslager zur Fixierung von Achsen und Wellen.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Formel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Inhaltsplatzhalter 5" descr="Formel1.jpg"/>
          <p:cNvPicPr/>
          <p:nvPr/>
        </p:nvPicPr>
        <p:blipFill>
          <a:blip r:embed="rId1"/>
          <a:stretch/>
        </p:blipFill>
        <p:spPr>
          <a:xfrm>
            <a:off x="785880" y="1928880"/>
            <a:ext cx="2714400" cy="1772280"/>
          </a:xfrm>
          <a:prstGeom prst="rect">
            <a:avLst/>
          </a:prstGeom>
          <a:ln w="0">
            <a:noFill/>
          </a:ln>
        </p:spPr>
      </p:pic>
      <p:pic>
        <p:nvPicPr>
          <p:cNvPr id="155" name="Grafik 6" descr="Hinweis1.jpg"/>
          <p:cNvPicPr/>
          <p:nvPr/>
        </p:nvPicPr>
        <p:blipFill>
          <a:blip r:embed="rId2"/>
          <a:stretch/>
        </p:blipFill>
        <p:spPr>
          <a:xfrm>
            <a:off x="928800" y="4643280"/>
            <a:ext cx="5238720" cy="437760"/>
          </a:xfrm>
          <a:prstGeom prst="rect">
            <a:avLst/>
          </a:prstGeom>
          <a:ln w="0">
            <a:noFill/>
          </a:ln>
        </p:spPr>
      </p:pic>
      <p:sp>
        <p:nvSpPr>
          <p:cNvPr id="156" name="Textfeld 7"/>
          <p:cNvSpPr/>
          <p:nvPr/>
        </p:nvSpPr>
        <p:spPr>
          <a:xfrm>
            <a:off x="4578840" y="2714760"/>
            <a:ext cx="130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M FS 1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Berechnungsaufgabe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24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. Radialkraft Fr = 5 K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xialkraft  Fa = 2 K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rehzahl    n  = 250 min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̄ ˡ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illenkugellager Lagerreihe 62, Bohrungskennzahl 09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ynamische Tragzahl nach RM TB 14-2 C =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sche Tragzahl nach RM TB 14-2 Cₒ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s.  Äquivalente Lagerbelastung P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ormeln: Fa/C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ₒ            in TB 14-3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a/Fr            in TB 14-3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 = X * Fr + Y * Fa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s.  die nominelle Lebensdauer 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ıoh            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. ᴾ = 3 für Kugellager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ıoh = 10   * Lıo / 60 * 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ıo = (C/P)ᴾ                 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feld 3"/>
          <p:cNvSpPr/>
          <p:nvPr/>
        </p:nvSpPr>
        <p:spPr>
          <a:xfrm>
            <a:off x="6716520" y="5643720"/>
            <a:ext cx="245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8672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Berechnungsaufgabe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Inhaltsplatzhalter 3" descr=""/>
          <p:cNvPicPr/>
          <p:nvPr/>
        </p:nvPicPr>
        <p:blipFill>
          <a:blip r:embed="rId1"/>
          <a:stretch/>
        </p:blipFill>
        <p:spPr>
          <a:xfrm>
            <a:off x="4214880" y="1857240"/>
            <a:ext cx="4264560" cy="4389120"/>
          </a:xfrm>
          <a:prstGeom prst="rect">
            <a:avLst/>
          </a:prstGeom>
          <a:ln w="9525">
            <a:noFill/>
          </a:ln>
        </p:spPr>
      </p:pic>
      <p:sp>
        <p:nvSpPr>
          <p:cNvPr id="162" name="Textfeld 4"/>
          <p:cNvSpPr/>
          <p:nvPr/>
        </p:nvSpPr>
        <p:spPr>
          <a:xfrm>
            <a:off x="364320" y="1857240"/>
            <a:ext cx="2057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eignete Wälzl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1143000"/>
            <a:ext cx="822924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6000" spc="-1" strike="noStrike">
                <a:solidFill>
                  <a:srgbClr val="04617b"/>
                </a:solidFill>
                <a:latin typeface="Calibri"/>
              </a:rPr>
              <a:t>Vielen Dank </a:t>
            </a:r>
            <a:br>
              <a:rPr sz="5000"/>
            </a:br>
            <a:br>
              <a:rPr sz="5000"/>
            </a:b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für die </a:t>
            </a:r>
            <a:br>
              <a:rPr sz="5000"/>
            </a:br>
            <a:br>
              <a:rPr sz="5000"/>
            </a:br>
            <a:r>
              <a:rPr b="0" lang="de-DE" sz="6000" spc="-1" strike="noStrike">
                <a:solidFill>
                  <a:srgbClr val="04617b"/>
                </a:solidFill>
                <a:latin typeface="Calibri"/>
              </a:rPr>
              <a:t>Aufmerksamkeit</a:t>
            </a:r>
            <a:endParaRPr b="0" lang="de-DE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nwendungsbereiche von Wälzlager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älzlager werden bevorzugt fü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.    möglichst wartungsfreie und betriebssichere Lagerungen bei normalen Anforderung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2.   Lagerungen, die aus dem Stillstand und bei kleinen Drehzahlen und hohen Belastungen reibungsarm arbeiten sollen, sowie bei sich ändernden Drehzahl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ufgaben und Wirkprinzip der Lager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Lager sollen dreh-(bewegliche) Teile in Maschinen  und Gerät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abstützen,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führ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und wirkende äußere Kräft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( quer, längs und/oder schräg zur Bewegungsachse)    aufnehm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llen u. Achsen möglichst zweifach lagern, damit die Reaktionskräfte statisch bestimmbar sind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Wirkprinzipien bei Lagern.jpg"/>
          <p:cNvPicPr/>
          <p:nvPr/>
        </p:nvPicPr>
        <p:blipFill>
          <a:blip r:embed="rId1"/>
          <a:stretch/>
        </p:blipFill>
        <p:spPr>
          <a:xfrm>
            <a:off x="1000080" y="1928880"/>
            <a:ext cx="72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Vor- und Nachteile von Wälzlager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24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-2347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Vorteile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1. geringe Reibung (Anlaufmoment kaum größer als das Betriebsmoment durch kleine Berührungsflächen), daher  geringe Wärmeentwicklun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2. kein Ruckgleiten (Stick-Slip-Effekt)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3. geringer Schmierstoffverbrauch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4. kaum Pflege und Wartung notwendi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5. gute Normung und Bemessungsgrundlagen, deswegen gut austauschba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6. keine Einlaufzeit notwendi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-2347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Nachteil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1. bei Stillstand und geringer Drehzahl empfindlich gegen Stöße und Erschütterung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2. begrenzte Höchstdrehzahl und Lebensdau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3. Verschmutzungsempfindlichkei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4. aufwendige Bauweise im Vergleich zu Gleitlager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5. höhere Geräuschentwicklung gegenüber Gleitlager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 hat allgemein Auswirkungen auf die Geräuschentwicklung, Vibrationen, Wärmeentwicklung und Lebensdauer.                                        Die axiale Lagerluft ist 8,5-10 fach so groß wie die radiale Lagerluft                                              (bei normaler Lagerluft/Kugellagern)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ie Lagerluft ist gewollt, denn sie sol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zu festem Einbau den optimalen Abstand der Wälzkörper zu Innen- und Außenring bewah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unterschiedlicher Wärmeausdehnung des Innen- und Außenrings ebenfalls einen ausreichenden Abstand behalten.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Die Lagerluf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4497840" cy="314280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500880" y="4786200"/>
            <a:ext cx="1238040" cy="10854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11" name="Tabelle 5"/>
          <p:cNvGraphicFramePr/>
          <p:nvPr/>
        </p:nvGraphicFramePr>
        <p:xfrm>
          <a:off x="428760" y="4143240"/>
          <a:ext cx="4500360" cy="3178440"/>
        </p:xfrm>
        <a:graphic>
          <a:graphicData uri="http://schemas.openxmlformats.org/drawingml/2006/table">
            <a:tbl>
              <a:tblPr/>
              <a:tblGrid>
                <a:gridCol w="900000"/>
                <a:gridCol w="3600360"/>
              </a:tblGrid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kleiner als 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ist größer als normal. Aus Bestand ist C3 für viele Typen lieferba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wendung z.B. bei stark erwärmtem Lager, für das wg. Wärmedehnung ein noch ausreichendes Spiel im Betrieb nötig ist. Bei kleinen Rillenkugellagern bedeutet C3 etwa 1/100 mm höhere Lagerluf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noch größer als C3. Falls in C4 nicht lieferbar, können Lager ggf. auf C4 umgeschliffen werd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hteck 6"/>
          <p:cNvSpPr/>
          <p:nvPr/>
        </p:nvSpPr>
        <p:spPr>
          <a:xfrm>
            <a:off x="283320" y="4357800"/>
            <a:ext cx="2480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1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nstantia"/>
              </a:rPr>
              <a:t>CN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Constantia"/>
              </a:rPr>
              <a:t>Lagerluf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7"/>
          <p:cNvSpPr/>
          <p:nvPr/>
        </p:nvSpPr>
        <p:spPr>
          <a:xfrm>
            <a:off x="3997080" y="928800"/>
            <a:ext cx="207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nstantia"/>
              </a:rPr>
              <a:t>durch Lagerlu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0</TotalTime>
  <Application>LibreOffice/7.4.7.2$Linux_X86_64 LibreOffice_project/40$Build-2</Application>
  <AppVersion>15.0000</AppVersion>
  <Words>1391</Words>
  <Paragraphs>2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0:11:05Z</dcterms:created>
  <dc:creator>Marco Ruschmeyer</dc:creator>
  <dc:description/>
  <dc:language>en-US</dc:language>
  <cp:lastModifiedBy>Marco Ruschmeyer</cp:lastModifiedBy>
  <dcterms:modified xsi:type="dcterms:W3CDTF">2010-10-29T18:58:25Z</dcterms:modified>
  <cp:revision>169</cp:revision>
  <dc:subject/>
  <dc:title>Wälzlager und Wälzlagerung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Bildschirmpräsentation (4:3)</vt:lpwstr>
  </property>
  <property fmtid="{D5CDD505-2E9C-101B-9397-08002B2CF9AE}" pid="3" name="Slides">
    <vt:r8>33</vt:r8>
  </property>
</Properties>
</file>